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8.png" ContentType="image/png"/>
  <Override PartName="/ppt/media/image41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9.png" ContentType="image/png"/>
  <Override PartName="/ppt/media/image9.png" ContentType="image/png"/>
  <Override PartName="/ppt/media/image38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0.png" ContentType="image/png"/>
  <Override PartName="/ppt/media/image43.png" ContentType="image/png"/>
  <Override PartName="/ppt/media/image46.png" ContentType="image/png"/>
  <Override PartName="/ppt/media/image11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20D-BCC7-4AEB-804E-488CE4656D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17EF-FEAE-40F3-8205-0CEB17B059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see station window and queue window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zATD provides many icons to display the queue an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statu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queue window has ICM Incoming Icon, CO Incoming Icon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d Icon, Park Recall, Hold Recall, Attendant Recall an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er Recall Icon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ation window has Terminal(DKTU, SLT, WHTU) Icons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ND Status, FWD Status, Net DSS, Pre Selected Message Ic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047E-5ECA-45DC-A64B-F04A1BDA1B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zATD provides phonebook service to store and retriev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 or internal us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one book includes the following inform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name, company name, address, contact point and so 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848F-A5F5-4863-90EE-8CEFB7A961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zATD provides call log servi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log view consists of selection field and search fiel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CEF-88D4-4B23-98FF-39DD63E512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zATD provides the following call related featur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73CF-9438-4A99-B9B2-B93B2C1E9E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6876-5FD8-478B-8777-092FD926F9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6AC4-1B2E-4E7D-92E3-B797023FBF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zATD provides the follow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related featur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2694-CC32-4B2E-A152-E0AECA5D34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EF6-BDBC-4B08-9C91-D2B3E176B5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7744-D8AA-4638-95EC-9B0D8E96D7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will watch the ezATD demonstr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will take about 25 minut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282-E4B2-4FE9-8B6E-BB32697D3B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6E1-F622-4428-A1A1-D517820311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We need the following h/w and s/w requirement that the ezATD is insta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LT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는 연동 안 되는지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DF2-148F-48BB-8E58-58C6B10BDF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Ok! Let’s see the software installation of ez-attenda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t is very easy!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Just follow the installation procedu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fter finishing the ez-attendant installation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we recommend you to reboot the comput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before executing the ezATD program.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Rebooting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하는 이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ABF5-E2B3-451B-8EAD-8FD8523F1C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rebooting your computer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[ez-attendant] icon and then the main window will be display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execute ez-attendant, set the following procedur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to [Setting]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[Option]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[Setting]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[Log On Information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DK syste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Address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tendant numb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he [Log on] button and then log-on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is step, ezATD get system information from the LDK syste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E44-BCC5-4333-8EE6-EDCEAB541D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the ezATD main window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window consists of Main Menu, Tool Up Bar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ue Window, Station/Phone Book/Log-view Window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/Information Window, MS Scheduler/Pre Selection/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 Window, Park Location Window And Tool Down Ba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E770-4DCD-4046-B936-ECC57A4F8E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ain menu consists of File, Tools, Setting and Help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File menu has these kinds of sub menu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 On/Off, DB Convert and Pri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ools menu has these kinds of sub menu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Name Change, Select Message Type, Paging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ic Selection, Date/Time Change, SMS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endant Feature and Prepaid Call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 setting menu has Customized Message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keup Setting, Record VMIB, Send E-mail, Group Setting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Station View, Flex Buttons Setting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e Setting, Keymap, Customize and Op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ly in the help, you can see the information of ez-attenda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1027-ED0D-45F6-923A-BC4B7F5B88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part is tool up ba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 Up bar has my status, wake up, paging, SMS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mail, print and log on/off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user click each button so you will see the window like thi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C54-B965-4129-A1CA-9E5FA13CC23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42.png"/><Relationship Id="rId22" Type="http://schemas.openxmlformats.org/officeDocument/2006/relationships/oleObject" Target="../embeddings/oleObject1.bin"/><Relationship Id="rId23" Type="http://schemas.openxmlformats.org/officeDocument/2006/relationships/image" Target="../media/image43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N:\LDK60\DOC\2.&#44368;&#50977; - LT &#49324;&#51204;&#44368;&#50977;\&#52572;&#44540; &#44368;&#50977; &#51088;&#47308;_[ &#50668;&#44592;&#50640; &#50629;&#45936;&#51060;&#53944; &#54644; &#51452;&#49464;&#50836; ]\Full\AtdDemo.ex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357280" y="1571760"/>
            <a:ext cx="44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Verdana"/>
              </a:rPr>
              <a:t>ezAttendant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0" r="0" b="38047"/>
          <a:stretch/>
        </p:blipFill>
        <p:spPr>
          <a:xfrm>
            <a:off x="717480" y="1495440"/>
            <a:ext cx="7701120" cy="1981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5520" y="105264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Station Window &amp; Queue Wind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747720" y="2390760"/>
            <a:ext cx="2438280" cy="105732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198960" y="1847880"/>
            <a:ext cx="4887720" cy="1600200"/>
          </a:xfrm>
          <a:prstGeom prst="rect">
            <a:avLst/>
          </a:pr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033560" y="26956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Queue Wind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789440" y="238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Station Wind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409896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43556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477216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929120" y="375768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4929120" y="409428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4929120" y="443556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929120" y="477216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929120" y="511344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75360"/>
            <a:ext cx="106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Net DSS(DN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970520" y="5143680"/>
            <a:ext cx="201600" cy="244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05320" y="375768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757680" y="38178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DKTU(Busy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546360" y="4811760"/>
            <a:ext cx="217440" cy="225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546360" y="3798720"/>
            <a:ext cx="185760" cy="222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970520" y="3794040"/>
            <a:ext cx="220680" cy="230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4970520" y="4140360"/>
            <a:ext cx="176040" cy="210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757680" y="4159080"/>
            <a:ext cx="89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DKTU(Idl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757680" y="4495680"/>
            <a:ext cx="81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SLT(Busy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3757680" y="483228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SLT(Idl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5200560" y="3817800"/>
            <a:ext cx="81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DND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4154400"/>
            <a:ext cx="104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Forward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546360" y="4159080"/>
            <a:ext cx="176400" cy="182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3546360" y="4476600"/>
            <a:ext cx="196920" cy="222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181480" y="4495680"/>
            <a:ext cx="112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Net DSS (Idl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4832280"/>
            <a:ext cx="11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Net DSS(Busy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4970520" y="4465800"/>
            <a:ext cx="201600" cy="24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4970520" y="4800600"/>
            <a:ext cx="203040" cy="246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576840" y="3757680"/>
            <a:ext cx="2186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6829560" y="3817800"/>
            <a:ext cx="170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Pre-selected 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6618240" y="3801960"/>
            <a:ext cx="176400" cy="21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477120" y="345276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Station Window Sub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345276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Station Window Main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1150920" y="5791320"/>
            <a:ext cx="1490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150920" y="5113440"/>
            <a:ext cx="1490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772160"/>
            <a:ext cx="1490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4435560"/>
            <a:ext cx="1490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4094280"/>
            <a:ext cx="1490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757680"/>
            <a:ext cx="1490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1150920" y="5454720"/>
            <a:ext cx="1490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1387440" y="3817800"/>
            <a:ext cx="119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ICM Incom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387440" y="4156200"/>
            <a:ext cx="119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CO Incom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1395360" y="5514840"/>
            <a:ext cx="135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Attendant Re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2"/>
          <a:stretch/>
        </p:blipFill>
        <p:spPr>
          <a:xfrm>
            <a:off x="1185840" y="4143240"/>
            <a:ext cx="182520" cy="209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3"/>
          <a:stretch/>
        </p:blipFill>
        <p:spPr>
          <a:xfrm>
            <a:off x="1177920" y="3805200"/>
            <a:ext cx="182520" cy="209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395360" y="5851440"/>
            <a:ext cx="115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Transfer  Re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1189080" y="5846760"/>
            <a:ext cx="158760" cy="19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>
            <a:off x="1197000" y="5510160"/>
            <a:ext cx="158760" cy="192240"/>
          </a:xfrm>
          <a:prstGeom prst="rect">
            <a:avLst/>
          </a:prstGeom>
          <a:ln w="0">
            <a:noFill/>
          </a:ln>
        </p:spPr>
      </p:pic>
      <p:pic>
        <p:nvPicPr>
          <p:cNvPr id="215" name="queuelist-parkrecall(21x24)1" descr=""/>
          <p:cNvPicPr/>
          <p:nvPr/>
        </p:nvPicPr>
        <p:blipFill>
          <a:blip r:embed="rId16"/>
          <a:stretch/>
        </p:blipFill>
        <p:spPr>
          <a:xfrm>
            <a:off x="1189080" y="4808520"/>
            <a:ext cx="181080" cy="23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387440" y="4834080"/>
            <a:ext cx="132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Park Re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queuelist-holdrecall(21x24)" descr=""/>
          <p:cNvPicPr/>
          <p:nvPr/>
        </p:nvPicPr>
        <p:blipFill>
          <a:blip r:embed="rId17"/>
          <a:stretch/>
        </p:blipFill>
        <p:spPr>
          <a:xfrm>
            <a:off x="1187280" y="5164200"/>
            <a:ext cx="174960" cy="203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395360" y="517536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Hold Re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1189080" y="4475160"/>
            <a:ext cx="196920" cy="225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87440" y="4495680"/>
            <a:ext cx="127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Hold state 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45276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Active Call &amp; Queue Window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8105760" y="1969920"/>
            <a:ext cx="200160" cy="4572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394560" y="540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enu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47720" y="1857240"/>
            <a:ext cx="2438280" cy="4795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916280"/>
            <a:ext cx="23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Active Call Wind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1911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CO Line Status I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invalid" descr=""/>
          <p:cNvPicPr/>
          <p:nvPr/>
        </p:nvPicPr>
        <p:blipFill>
          <a:blip r:embed="rId19"/>
          <a:stretch/>
        </p:blipFill>
        <p:spPr>
          <a:xfrm>
            <a:off x="6575400" y="552456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228" name="busy" descr=""/>
          <p:cNvPicPr/>
          <p:nvPr/>
        </p:nvPicPr>
        <p:blipFill>
          <a:blip r:embed="rId20"/>
          <a:stretch/>
        </p:blipFill>
        <p:spPr>
          <a:xfrm>
            <a:off x="6575400" y="4802040"/>
            <a:ext cx="428760" cy="341640"/>
          </a:xfrm>
          <a:prstGeom prst="rect">
            <a:avLst/>
          </a:prstGeom>
          <a:ln w="0">
            <a:noFill/>
          </a:ln>
        </p:spPr>
      </p:pic>
      <p:pic>
        <p:nvPicPr>
          <p:cNvPr id="229" name="idle" descr=""/>
          <p:cNvPicPr/>
          <p:nvPr/>
        </p:nvPicPr>
        <p:blipFill>
          <a:blip r:embed="rId21"/>
          <a:stretch/>
        </p:blipFill>
        <p:spPr>
          <a:xfrm>
            <a:off x="6524640" y="4495680"/>
            <a:ext cx="571320" cy="343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029360" y="4572000"/>
            <a:ext cx="94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Idle CO L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7004160" y="4915080"/>
            <a:ext cx="109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Busy CO L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575400" y="5181480"/>
          <a:ext cx="457200" cy="333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75400" y="5181480"/>
                    <a:ext cx="45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004160" y="5257800"/>
            <a:ext cx="178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Transfer Hold CO L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004160" y="560088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Invalid CO L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6575400" y="4495680"/>
            <a:ext cx="2209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6575400" y="5181480"/>
            <a:ext cx="2209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575400" y="4838760"/>
            <a:ext cx="2209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6575400" y="5524560"/>
            <a:ext cx="2209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8760" y="10526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Phone Book Wind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47560" y="1676520"/>
            <a:ext cx="8215200" cy="3962160"/>
            <a:chOff x="547560" y="1676520"/>
            <a:chExt cx="8215200" cy="396216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547560" y="1692000"/>
              <a:ext cx="3733920" cy="34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rcRect l="31003" t="21175" r="22996" b="23371"/>
            <a:stretch/>
          </p:blipFill>
          <p:spPr>
            <a:xfrm>
              <a:off x="4905360" y="1676520"/>
              <a:ext cx="385740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766880" y="2104920"/>
              <a:ext cx="2498760" cy="2666520"/>
            </a:xfrm>
            <a:prstGeom prst="rect">
              <a:avLst/>
            </a:prstGeom>
            <a:noFill/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2160" y="2293920"/>
              <a:ext cx="457200" cy="1519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519360" y="2165040"/>
              <a:ext cx="1371600" cy="212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93920" y="2682720"/>
              <a:ext cx="152640" cy="5331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85200" y="540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enu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28760" y="105264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Log-View Wind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77880" y="1405080"/>
            <a:ext cx="6561000" cy="4690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543800" y="402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Search Fiel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7543800" y="271476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Y견고딕"/>
              </a:rPr>
              <a:t>Selection Fiel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3008160" y="2800440"/>
            <a:ext cx="38163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986520" y="3452760"/>
            <a:ext cx="203400" cy="685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3008160" y="3263760"/>
            <a:ext cx="3816360" cy="227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813720" y="4195440"/>
            <a:ext cx="779400" cy="1191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813720" y="2866680"/>
            <a:ext cx="779400" cy="1191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85200" y="698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enu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1521000"/>
            <a:ext cx="6858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ll Queuing / Answering Incom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ICM/CO Line Incom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Hold State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Attendant / Transfer / Hold / Park Recall : Has Recent via Hist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err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Unscreened / Screened Transfe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ssage Wait / Call Back / Camp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ing Outgo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Using Phonebook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Using Keypad Dialo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Using Station Window(Mouse Opera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ing Log View Da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Mouse Opera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Using Speed bin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ll Park and Retrie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ll Pick-up(Mouse Operation Only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428760" y="1049400"/>
            <a:ext cx="32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Call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433080" y="540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all Related Fea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1574640"/>
            <a:ext cx="7162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ord VMI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Supports Only Start Operation for Recording VMI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keup Call Registration / Canc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selected Message and Customized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Pre-selected Message is fix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Customized Messag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be chang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on Name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Maximum 11 Charact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Just saved on LDK system, not saved on ez Attendant’s data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ge COS / Temporary COS / Attendant Cancel / Music Sel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COS Down / Resto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Day /Night COS Set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DND/FWD Canc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MOH Set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428760" y="1055520"/>
            <a:ext cx="32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Call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378360" y="442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all Related Feature (cont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72840" y="1546200"/>
            <a:ext cx="511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e Time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Change 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12/24 Tim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dd/mm/yy or mm/dd/yy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Internal / External / System All Call Pag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Depends on Admin Configuration on LDK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Using Keypad(Same as Keyset Opera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Supported to DTMF T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Works same as Keyset Button When press each butt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428760" y="1052640"/>
            <a:ext cx="32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Call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78360" y="6336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all Related Feature (cont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26120" y="1590840"/>
            <a:ext cx="7408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owerful Phone 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Manages Internal User / Custom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When Incoming Call, Searches Information on Phone 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Can manage speed bin data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DB Conve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Importing/Exporting MS-Outlook,MS-Access, MS-Excel, ACT! , Goldmi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Information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earching User (Internal / Customer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Full name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②First name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③Last name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④Station Number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⑤Mobile Phon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⑥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Company Phone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⑦House Phone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⑧Department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⑨E-Mail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hows Status of Station , Able to Make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re-Selected Message / Schedule Status Displa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Auto Loading Schedule on MS-Outlook or MS-Exchange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Displays Status When Searching Information about Some Us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Displays Pre-selected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28760" y="1047600"/>
            <a:ext cx="32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PC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" y="5400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C Related Fea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77160" y="1566720"/>
            <a:ext cx="5042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Screen Pop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User Minimizes ez-Attendant to work another 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Get an incom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hows Popup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ending SMS to DECT/DKTU (Maximum 48 Character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ending SMS to Mobile Phone (GSM Modem Needed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og Vie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ave whole call history except internal call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ave to excel file (used by 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바탕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party application)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Recommend to save to file when over 10,000 record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Multi Language Suppor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Able to Change Directl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Change to Local Language in “pcAttendantll.txt”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28760" y="1047600"/>
            <a:ext cx="32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PC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409680" y="5400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C Related Feature (cont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75000" y="1595520"/>
            <a:ext cx="460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Keyboard Mapping for Fast Ope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upports Some Call / PC Related Func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Can Change Hot-Ke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Sending E-mai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Flexible Button Programm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ame Function as Admin PGM 11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Group Management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Can make/delete group under one company nam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Can add/delete member to/from a group nam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og View Pr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Tool Tip Displa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tation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Tool Up/Down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25520" y="10476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PC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409680" y="4428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C Related Feature (cont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47920" y="243828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w Demonstration CD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bout 25 Minutes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>
            <a:hlinkClick r:id="rId1"/>
          </p:cNvPr>
          <p:cNvSpPr/>
          <p:nvPr/>
        </p:nvSpPr>
        <p:spPr>
          <a:xfrm>
            <a:off x="3886200" y="42670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7301"/>
                </a:moveTo>
                <a:lnTo>
                  <a:pt x="10105" y="7301"/>
                </a:lnTo>
                <a:lnTo>
                  <a:pt x="10488" y="7667"/>
                </a:lnTo>
                <a:lnTo>
                  <a:pt x="19697" y="7667"/>
                </a:lnTo>
                <a:lnTo>
                  <a:pt x="20254" y="8224"/>
                </a:lnTo>
                <a:lnTo>
                  <a:pt x="20254" y="8772"/>
                </a:lnTo>
                <a:lnTo>
                  <a:pt x="22099" y="8772"/>
                </a:lnTo>
                <a:lnTo>
                  <a:pt x="22465" y="8224"/>
                </a:lnTo>
                <a:lnTo>
                  <a:pt x="23204" y="8224"/>
                </a:lnTo>
                <a:lnTo>
                  <a:pt x="23204" y="13376"/>
                </a:lnTo>
                <a:lnTo>
                  <a:pt x="22465" y="13376"/>
                </a:lnTo>
                <a:lnTo>
                  <a:pt x="22099" y="12828"/>
                </a:lnTo>
                <a:lnTo>
                  <a:pt x="20254" y="12828"/>
                </a:lnTo>
                <a:lnTo>
                  <a:pt x="20254" y="14107"/>
                </a:lnTo>
                <a:lnTo>
                  <a:pt x="10671" y="14107"/>
                </a:lnTo>
                <a:lnTo>
                  <a:pt x="10671" y="9877"/>
                </a:lnTo>
                <a:lnTo>
                  <a:pt x="10488" y="9877"/>
                </a:lnTo>
                <a:lnTo>
                  <a:pt x="10105" y="10243"/>
                </a:lnTo>
                <a:lnTo>
                  <a:pt x="9191" y="1024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13640" y="6336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Demo C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3640" y="1197000"/>
            <a:ext cx="5327640" cy="3816360"/>
          </a:xfrm>
          <a:prstGeom prst="roundRect">
            <a:avLst>
              <a:gd name="adj" fmla="val 75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1. Overview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2. Require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3. Instal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4. Execution of ez Attend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5. Main Wind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6. Menu Descrip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7. Call Related Feat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8. PC Related Feat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25520" y="73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7640" y="5724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22200" y="1052640"/>
            <a:ext cx="8430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z Attendant software can manage the various type of call with your PC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attendant works with another type of work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for example, word processing), the attendant can minimize this softwa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button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an incoming call is occurred during the word processing, the pop up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will be activated with simple information about the caller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at time, attendant should do its own ope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the call related operation is depending on the LDK system feature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the capacity of queue size or recall timer are depend on th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DK system itself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t PC related features are independent with LDK system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471840"/>
            <a:ext cx="1166760" cy="6048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309680"/>
            <a:ext cx="1166760" cy="6066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649520" y="1165320"/>
            <a:ext cx="734220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        : Window 2000/X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                      : Minimum Pentium III 800 MHz or High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                         : 256 MB  or much more DR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Hard Space   : 100 MB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                          : 17’’ Monitor(19’’ Recommende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ution                     : 1024 x 768(Default), Higher Resolution avail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18680" y="14414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/W Req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34160" y="35942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/W Req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39560" y="464832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work Environ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73400" y="5025960"/>
            <a:ext cx="800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K system should have unique IP address assigned by network administrator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should be LAN cable to connect LDK system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z Attendant need to be paired with Keyset Termina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685520" y="3274920"/>
            <a:ext cx="47358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B Version                 : 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leased ver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                                 : ez Attendant Progr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O35Registor.exe  for using databa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244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858960"/>
            <a:ext cx="35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Execute “SETUP.EXE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Click [Yes] button to install DAO Ver 3.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522600"/>
            <a:ext cx="33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Change Directory to be install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Click [Next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545000" y="10368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Click [Next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545000" y="35226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Click [Finish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85200" y="604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30353" t="31625" r="30288" b="31334"/>
          <a:stretch/>
        </p:blipFill>
        <p:spPr>
          <a:xfrm>
            <a:off x="468360" y="1360440"/>
            <a:ext cx="3124080" cy="1833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45000" y="1360440"/>
            <a:ext cx="3086280" cy="1833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360" y="404820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45000" y="4048200"/>
            <a:ext cx="3086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81480" y="1504800"/>
            <a:ext cx="259056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8000" y="7308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Execution of ez Attenda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25520" y="10526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Execution of ez Attend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34011" t="33674" r="40093" b="35273"/>
          <a:stretch/>
        </p:blipFill>
        <p:spPr>
          <a:xfrm>
            <a:off x="533520" y="1577880"/>
            <a:ext cx="2438280" cy="2194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11400" y="3570120"/>
            <a:ext cx="761760" cy="1699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1501920"/>
            <a:ext cx="685800" cy="152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6184080" y="198108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Input  System IP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44720" y="1638000"/>
            <a:ext cx="21938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189840" y="2468520"/>
            <a:ext cx="29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Input Attendant Extension Num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2133360"/>
            <a:ext cx="144792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2452680"/>
            <a:ext cx="144792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23800" y="4052880"/>
            <a:ext cx="5410440" cy="47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rcRect l="33191" t="36184" r="32568" b="35889"/>
          <a:stretch/>
        </p:blipFill>
        <p:spPr>
          <a:xfrm>
            <a:off x="533520" y="4581360"/>
            <a:ext cx="3429000" cy="1492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86200" y="2203560"/>
            <a:ext cx="914400" cy="135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368440"/>
            <a:ext cx="1219320" cy="1317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095800" y="4229280"/>
            <a:ext cx="762120" cy="3045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018120" y="4249800"/>
            <a:ext cx="29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Click [Log On]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018120" y="5162400"/>
            <a:ext cx="197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Log On is process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747680" y="501480"/>
            <a:ext cx="267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"/>
              </a:rPr>
              <a:t>Execution of ez Attenda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695760" y="1847880"/>
            <a:ext cx="2171520" cy="133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186600" y="165420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Select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67280" y="18288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600" y="1219320"/>
            <a:ext cx="6002280" cy="4694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6280" y="2514600"/>
            <a:ext cx="1915920" cy="160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390760" y="3360600"/>
            <a:ext cx="48672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457360" y="1776240"/>
            <a:ext cx="4572000" cy="2338560"/>
          </a:xfrm>
          <a:prstGeom prst="rect">
            <a:avLst/>
          </a:prstGeom>
          <a:noFill/>
          <a:ln w="25560">
            <a:solidFill>
              <a:srgbClr val="53b7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476280" y="4148280"/>
            <a:ext cx="1911240" cy="10666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2457360" y="4159080"/>
            <a:ext cx="4572000" cy="13050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0" y="4890960"/>
            <a:ext cx="24768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381400" y="4297320"/>
            <a:ext cx="4876560" cy="0"/>
          </a:xfrm>
          <a:prstGeom prst="line">
            <a:avLst/>
          </a:prstGeom>
          <a:ln w="255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7334280" y="343224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ue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334280" y="2263680"/>
            <a:ext cx="18097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 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 –Vie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onal(Icon/List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7334280" y="4205160"/>
            <a:ext cx="13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and Inf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334280" y="4618080"/>
            <a:ext cx="1219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scheduler Pre_selec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95360" y="5486400"/>
            <a:ext cx="6534000" cy="1731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029360" y="5570640"/>
            <a:ext cx="228600" cy="0"/>
          </a:xfrm>
          <a:prstGeom prst="line">
            <a:avLst/>
          </a:prstGeom>
          <a:ln w="255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7029360" y="2685960"/>
            <a:ext cx="228600" cy="0"/>
          </a:xfrm>
          <a:prstGeom prst="line">
            <a:avLst/>
          </a:prstGeom>
          <a:ln w="25560">
            <a:solidFill>
              <a:srgbClr val="53b7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65120" y="1501920"/>
            <a:ext cx="6553080" cy="25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1530360"/>
            <a:ext cx="11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Up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295280"/>
            <a:ext cx="1371600" cy="206640"/>
          </a:xfrm>
          <a:prstGeom prst="ellipse">
            <a:avLst/>
          </a:prstGeom>
          <a:noFill/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334280" y="1274760"/>
            <a:ext cx="108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76280" y="5681520"/>
            <a:ext cx="6553080" cy="2192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334280" y="5737320"/>
            <a:ext cx="1187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Down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7334280" y="5465880"/>
            <a:ext cx="118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k Loc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7029360" y="5821200"/>
            <a:ext cx="228600" cy="0"/>
          </a:xfrm>
          <a:prstGeom prst="line">
            <a:avLst/>
          </a:prstGeom>
          <a:ln w="255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687680" y="1371600"/>
            <a:ext cx="556236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029360" y="16113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504720" y="5494320"/>
            <a:ext cx="2105280" cy="144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5508720"/>
            <a:ext cx="120600" cy="12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17480" y="549756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HY견고딕"/>
              </a:rPr>
              <a:t>60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90600" y="6048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6280" y="1828800"/>
            <a:ext cx="1915920" cy="6094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390760" y="1925640"/>
            <a:ext cx="48672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334280" y="1828800"/>
            <a:ext cx="180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e Call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28760" y="10526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Main Menu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33935" t="33774" r="49715" b="42792"/>
          <a:stretch/>
        </p:blipFill>
        <p:spPr>
          <a:xfrm>
            <a:off x="685800" y="157320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33935" t="33674" r="44336" b="43848"/>
          <a:stretch/>
        </p:blipFill>
        <p:spPr>
          <a:xfrm>
            <a:off x="5029200" y="1573200"/>
            <a:ext cx="327672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rcRect l="34011" t="33674" r="40093" b="35273"/>
          <a:stretch/>
        </p:blipFill>
        <p:spPr>
          <a:xfrm>
            <a:off x="685800" y="3668760"/>
            <a:ext cx="3581280" cy="235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rcRect l="33935" t="33789" r="42435" b="58887"/>
          <a:stretch/>
        </p:blipFill>
        <p:spPr>
          <a:xfrm>
            <a:off x="5029200" y="3668760"/>
            <a:ext cx="3352680" cy="701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8680" y="540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enu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28760" y="1055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Tool Up B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916" t="49532" r="786" b="12666"/>
          <a:stretch/>
        </p:blipFill>
        <p:spPr>
          <a:xfrm>
            <a:off x="380880" y="3546360"/>
            <a:ext cx="8458200" cy="28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76520" y="1488960"/>
            <a:ext cx="2895480" cy="1708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981080" y="4224240"/>
            <a:ext cx="2819520" cy="1852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952880" y="106668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4314960"/>
            <a:ext cx="1218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Outl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00800" y="423216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077320" y="2631960"/>
            <a:ext cx="7617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 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 Of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rcRect l="17136" t="35435" r="72386" b="47333"/>
          <a:stretch/>
        </p:blipFill>
        <p:spPr>
          <a:xfrm>
            <a:off x="380880" y="4232160"/>
            <a:ext cx="906480" cy="1192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3470400"/>
            <a:ext cx="106704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85440" y="3851280"/>
            <a:ext cx="22860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470400"/>
            <a:ext cx="10666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133720" y="3165120"/>
            <a:ext cx="304560" cy="30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470400"/>
            <a:ext cx="10666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7760" y="3851280"/>
            <a:ext cx="22860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3470400"/>
            <a:ext cx="10666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95680" y="3013200"/>
            <a:ext cx="45720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3470400"/>
            <a:ext cx="106704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486040" y="3851280"/>
            <a:ext cx="22860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470400"/>
            <a:ext cx="10666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385128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470400"/>
            <a:ext cx="10666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077320" y="3088800"/>
            <a:ext cx="22860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089040" y="501480"/>
            <a:ext cx="133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"/>
              </a:rPr>
              <a:t>Tool Up Ba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385200" y="698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Menu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3276720"/>
            <a:ext cx="16002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for Log Vie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4:31:05Z</dcterms:created>
  <dc:creator>조우현</dc:creator>
  <dc:description/>
  <dc:language>en-US</dc:language>
  <cp:lastModifiedBy>김완경</cp:lastModifiedBy>
  <dcterms:modified xsi:type="dcterms:W3CDTF">2007-03-11T06:15:30Z</dcterms:modified>
  <cp:revision>19</cp:revision>
  <dc:subject/>
  <dc:title>슬라이드 1</dc:title>
</cp:coreProperties>
</file>